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DDD4-4E36-45A3-BBE0-1501FC1E32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 Smbd SmText"/>
              </a:rPr>
              <a:t>Глобальные пробл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no Pro Smbd SmText"/>
              </a:rPr>
              <a:t>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BDFF-0D21-42EB-A7BC-353513E84E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FEB7-2DAD-4C65-BFF3-0E7B8B5766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EFBD-F13B-49B4-ACFC-57E9BC23B9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«Север-Ю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2AA1-2777-4479-B3D8-82F3D6620D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80AE-F8EE-44C6-92B5-63C8228284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блема охраны здоровья, предотвращение распространения СПИДа, нарком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0305-D4E1-4E8E-8576-55450AC143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ить знания учащихся о глобальных проблем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их взаимосвязь и взаимообусловленность, их отличия от любых иных проблем человеч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различных точках зрения на пути и средства разрешен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A588-EC6F-49BB-B58A-1E89B30010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5F2F-8BF0-4DB1-9776-158102875A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97FE-417B-4136-B6EC-45DFB28F13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твете на вопросы (письменно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Самое интересное на уроке был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Мне понравилос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цените по десятибалльной системе всю работу класса на уроке с трёх пози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(личный вклад собственного тру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ы (работа всего клас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ло (система новизны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7FC7-22F7-4338-BF00-328F633198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"/>
              </a:rPr>
              <a:t>Характерные черты глобальных проблем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EE31-BDB2-426A-8F21-DEF8F920E7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ойны и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«Север-Юг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охраны здоровья, предотвращение распространения СПИДа, нарком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26EC-9BC1-4011-9A08-64B506DCAB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F726-9986-40A0-9721-8239306205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1878-13E3-405E-9455-8A56A7FDC7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67ED-66A9-4484-BAF5-08E97FFCBD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91C-779B-4196-BAD4-27CBFD5B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094-5293-4A8A-B806-AB65AE61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5FD0-33B4-4A32-AA1F-B9AAD691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C0E-88AE-4EC3-9C60-EDA64A50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3BE-67BF-46B0-8D6A-C8A4E7E3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EE2-BF84-44F5-AD43-E21D444F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D27-1077-468D-A307-78BE7516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249-906E-4F5A-B4A9-0985DC2A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7C5-8E40-459D-97FC-36B5231D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4A66-F4A4-462F-80FC-63978D08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5DB-AE63-47EE-B9DB-96B09FA3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213-5933-4893-8109-997DFC20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B823-2C25-45E9-A2A8-94D511B07A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72AB-9DAB-408E-BD88-19EE9DE31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624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no Pro Smbd SmText"/>
              </a:rPr>
              <a:t>Глобальные проблемы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no Pro Smbd SmText"/>
              </a:rPr>
              <a:t>современно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3" descr="PL_14.jpg"/>
          <p:cNvPicPr/>
          <p:nvPr/>
        </p:nvPicPr>
        <p:blipFill>
          <a:blip r:embed="rId1"/>
          <a:stretch/>
        </p:blipFill>
        <p:spPr>
          <a:xfrm>
            <a:off x="903240" y="380880"/>
            <a:ext cx="7337520" cy="57452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Экологические проблем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gpw-2007.jpg"/>
          <p:cNvPicPr/>
          <p:nvPr/>
        </p:nvPicPr>
        <p:blipFill>
          <a:blip r:embed="rId1"/>
          <a:stretch/>
        </p:blipFill>
        <p:spPr>
          <a:xfrm>
            <a:off x="1714680" y="1954080"/>
            <a:ext cx="5715000" cy="38196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ush_02.jpg"/>
          <p:cNvPicPr/>
          <p:nvPr/>
        </p:nvPicPr>
        <p:blipFill>
          <a:blip r:embed="rId1"/>
          <a:stretch/>
        </p:blipFill>
        <p:spPr>
          <a:xfrm>
            <a:off x="949320" y="154080"/>
            <a:ext cx="7280280" cy="60181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proval.jpg"/>
          <p:cNvPicPr/>
          <p:nvPr/>
        </p:nvPicPr>
        <p:blipFill>
          <a:blip r:embed="rId1"/>
          <a:stretch/>
        </p:blipFill>
        <p:spPr>
          <a:xfrm>
            <a:off x="193680" y="304920"/>
            <a:ext cx="8686800" cy="57909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нергетическая пробл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13154214.jpg"/>
          <p:cNvPicPr/>
          <p:nvPr/>
        </p:nvPicPr>
        <p:blipFill>
          <a:blip r:embed="rId1"/>
          <a:stretch/>
        </p:blipFill>
        <p:spPr>
          <a:xfrm>
            <a:off x="1679400" y="1708200"/>
            <a:ext cx="5748480" cy="43117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42972_20001128024257.jpg"/>
          <p:cNvPicPr/>
          <p:nvPr/>
        </p:nvPicPr>
        <p:blipFill>
          <a:blip r:embed="rId1"/>
          <a:stretch/>
        </p:blipFill>
        <p:spPr>
          <a:xfrm>
            <a:off x="685800" y="533520"/>
            <a:ext cx="7462800" cy="5595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42977_20001128040423.jpg"/>
          <p:cNvPicPr/>
          <p:nvPr/>
        </p:nvPicPr>
        <p:blipFill>
          <a:blip r:embed="rId1"/>
          <a:stretch/>
        </p:blipFill>
        <p:spPr>
          <a:xfrm>
            <a:off x="762120" y="533520"/>
            <a:ext cx="7615080" cy="5709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4267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а «Север-Юг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мографическая пробл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x_2096e571.jpg"/>
          <p:cNvPicPr/>
          <p:nvPr/>
        </p:nvPicPr>
        <p:blipFill>
          <a:blip r:embed="rId1"/>
          <a:stretch/>
        </p:blipFill>
        <p:spPr>
          <a:xfrm>
            <a:off x="1074600" y="1905120"/>
            <a:ext cx="6850080" cy="38354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облема охраны здоровья, предотвращение распространения СПИДа, нарком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1143532_081.jpg"/>
          <p:cNvPicPr/>
          <p:nvPr/>
        </p:nvPicPr>
        <p:blipFill>
          <a:blip r:embed="rId1"/>
          <a:stretch/>
        </p:blipFill>
        <p:spPr>
          <a:xfrm>
            <a:off x="2743200" y="1957320"/>
            <a:ext cx="3157560" cy="3810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общить знания учащихся о глобальных проблем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казать их взаимосвязь и взаимообусловленность, их отличия от любых иных проблем человече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ать представление о различных точках зрения на пути и средства разрешения глобальных проб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1143674_101.jpg"/>
          <p:cNvPicPr/>
          <p:nvPr/>
        </p:nvPicPr>
        <p:blipFill>
          <a:blip r:embed="rId1"/>
          <a:stretch/>
        </p:blipFill>
        <p:spPr>
          <a:xfrm>
            <a:off x="533520" y="304920"/>
            <a:ext cx="7924680" cy="6172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1157587_Kopiya_02.jpg"/>
          <p:cNvPicPr/>
          <p:nvPr/>
        </p:nvPicPr>
        <p:blipFill>
          <a:blip r:embed="rId1"/>
          <a:stretch/>
        </p:blipFill>
        <p:spPr>
          <a:xfrm>
            <a:off x="306360" y="457200"/>
            <a:ext cx="8372520" cy="55627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3" descr="1146916_331.jpg"/>
          <p:cNvPicPr/>
          <p:nvPr/>
        </p:nvPicPr>
        <p:blipFill>
          <a:blip r:embed="rId1"/>
          <a:stretch/>
        </p:blipFill>
        <p:spPr>
          <a:xfrm>
            <a:off x="488880" y="533520"/>
            <a:ext cx="8350200" cy="5562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3" descr="3856361cca.jpg"/>
          <p:cNvPicPr/>
          <p:nvPr/>
        </p:nvPicPr>
        <p:blipFill>
          <a:blip r:embed="rId1"/>
          <a:stretch/>
        </p:blipFill>
        <p:spPr>
          <a:xfrm>
            <a:off x="1828800" y="18050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c1708be028.jpg"/>
          <p:cNvPicPr/>
          <p:nvPr/>
        </p:nvPicPr>
        <p:blipFill>
          <a:blip r:embed="rId1"/>
          <a:stretch/>
        </p:blipFill>
        <p:spPr>
          <a:xfrm>
            <a:off x="1371600" y="1295280"/>
            <a:ext cx="6095880" cy="43434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держимое 3" descr="7b1ceeb9e4.jpg"/>
          <p:cNvPicPr/>
          <p:nvPr/>
        </p:nvPicPr>
        <p:blipFill>
          <a:blip r:embed="rId1"/>
          <a:stretch/>
        </p:blipFill>
        <p:spPr>
          <a:xfrm>
            <a:off x="1600200" y="685800"/>
            <a:ext cx="5867280" cy="47242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no Pro"/>
              </a:rPr>
              <a:t>Рефлекс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твете на вопросы (письменно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Самое интересное на уроке было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Мне понравилось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цените по десятибалльной системе всю работу класса на уроке с трёх позиц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Я (личный вклад собственного тру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ы (работа всего клас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ло (система новизны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no Pro"/>
              </a:rPr>
              <a:t>Характерные черты глобальных проблем соврем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2819520"/>
          <a:ext cx="8458200" cy="274320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88760"/>
                <a:gridCol w="1692360"/>
                <a:gridCol w="169236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3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яются показателями целостности и взаимосвязи современного ми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иск решения этих проблем способствует становлению единой цивилиз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cap="rnd"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Глобальные пробл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а войны и ми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кологические пробл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нергетические пробл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а «Север-Юг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мографическая пробле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ы охраны здоровья, предотвращение распространения СПИДа, наркома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еждународный террориз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79646"/>
          </a:solidFill>
          <a:ln cap="rnd" w="25560">
            <a:solidFill>
              <a:srgbClr val="b66d3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лассификация глобальных пробл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752480"/>
          <a:ext cx="8381880" cy="42674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итическ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логи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ном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Возникновение локальных конфли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арниковый эффект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Демографическая ситуац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Продовольственная пробле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пасность ядерной вой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Загрязнение атмосферы, вод Мирового океа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еренаселённый «Юг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люса разви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Различие политических сист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«Озоновая дыр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Террориз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стощение ресур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cap="rnd"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"/>
          <p:cNvPicPr/>
          <p:nvPr/>
        </p:nvPicPr>
        <p:blipFill>
          <a:blip r:embed="rId1"/>
          <a:stretch/>
        </p:blipFill>
        <p:spPr>
          <a:xfrm>
            <a:off x="414360" y="1511280"/>
            <a:ext cx="8315280" cy="4554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rnd"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роблема войны и ми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Barhem_U-331_11_1941_vzriv_pogreba.jpg"/>
          <p:cNvPicPr/>
          <p:nvPr/>
        </p:nvPicPr>
        <p:blipFill>
          <a:blip r:embed="rId1"/>
          <a:stretch/>
        </p:blipFill>
        <p:spPr>
          <a:xfrm>
            <a:off x="1346040" y="1600200"/>
            <a:ext cx="645192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bron_1.jpg"/>
          <p:cNvPicPr/>
          <p:nvPr/>
        </p:nvPicPr>
        <p:blipFill>
          <a:blip r:embed="rId1"/>
          <a:stretch/>
        </p:blipFill>
        <p:spPr>
          <a:xfrm>
            <a:off x="457200" y="846000"/>
            <a:ext cx="8229600" cy="45864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Prin_nagrada.jpg"/>
          <p:cNvPicPr/>
          <p:nvPr/>
        </p:nvPicPr>
        <p:blipFill>
          <a:blip r:embed="rId1"/>
          <a:stretch/>
        </p:blipFill>
        <p:spPr>
          <a:xfrm>
            <a:off x="1535040" y="304920"/>
            <a:ext cx="6073920" cy="5821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9:50Z</dcterms:modified>
  <cp:revision>27</cp:revision>
  <dc:subject/>
  <dc:title>Глобальные проблемы современности.</dc:title>
</cp:coreProperties>
</file>